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3E1F1-1A3F-4E4F-B1E6-F36429017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7BD4-A9DC-4EED-9627-2395191B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90C52-C271-4E7A-9162-186FA266E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29423-9604-46AF-A210-BD2133EFE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02D5E-8DD8-43B7-89B1-B6376E3E5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4EAE2-BB33-4016-8C06-2997F6C9A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DBE4-73D5-4BFD-A2C2-42A728853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A2A4D-270F-4925-869A-B404673BD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BA85D-D420-4E27-BF8C-5A68D3DB8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838CF-D8FC-448B-8EA8-908694628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32BE4-A543-4314-ABD3-A5F0357F6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70528-2265-4900-B1E5-782766CEC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C514-5739-4D5B-AF25-AEC0D8E3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633C1-82A1-4753-A7AC-6859E73A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F7537-C728-435F-9489-92F8F9ABE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310D3-53A5-43A8-9519-87635CC6B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FF687-0912-4C2F-AC7C-C6309408A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3FAB0-0FA7-4802-9792-0FE36DD85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3576-7FF6-45B3-B70B-EDBDEF74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21D91-9ED7-4DC4-83A3-19E53748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D5BB-78E2-48EB-BB61-326CECAA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1DAB-F903-4669-BC52-A67A420E7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DD55-AC4F-4DF2-A754-5C840CE2B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40CB-B853-4F72-B232-CB868CB87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476A-9A13-47DF-9133-CD79588AB56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6BA3-8A96-43EF-9D74-A2CF93D3340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a:effectLst>
            <a:outerShdw dist="12727" dir="8100000" blurRad="0" rotWithShape="0">
              <a:srgbClr val="808080">
                <a:alpha val="75000"/>
              </a:srgbClr>
            </a:outerShdw>
          </a:effectLst>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eron’s Awesome Wonderful Project</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solidFill>
            <a:srgbClr val="ffffff"/>
          </a:solidFill>
          <a:ln w="9360">
            <a:solidFill>
              <a:srgbClr val="000000"/>
            </a:solidFill>
            <a:miter/>
          </a:ln>
          <a:effectLst>
            <a:outerShdw dist="12727" dir="8100000" blurRad="0" rotWithShape="0">
              <a:srgbClr val="808080">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e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d: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Structure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Hexagon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Hexagonal</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Cubic face centere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Cub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758.4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906.4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890.1 kj mol-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867.7 kj mol-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egativit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8</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6</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2.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Formation</a:t>
            </a:r>
            <a:endParaRPr b="0" lang="en-US" sz="4400" spc="-1" strike="noStrike">
              <a:solidFill>
                <a:srgbClr val="000000"/>
              </a:solidFill>
              <a:latin typeface="Times New Roman"/>
            </a:endParaRPr>
          </a:p>
        </p:txBody>
      </p:sp>
      <p:sp>
        <p:nvSpPr>
          <p:cNvPr id="107" name="PlaceHolder 2"/>
          <p:cNvSpPr>
            <a:spLocks noGrp="1"/>
          </p:cNvSpPr>
          <p:nvPr>
            <p:ph/>
          </p:nvPr>
        </p:nvSpPr>
        <p:spPr>
          <a:xfrm>
            <a:off x="762120" y="20574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Smalle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Smal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c Charg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c Siz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83.8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88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51 p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09 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62000"/>
          </a:bodyPr>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 Cobalt is a bluish-white, lustrous, hard, brittle metal. It is ferromagnetic. The metal is active chemically, forming many compounds. </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n- Zinc is a bluish-silver, lustrous metal that tarnishes in moist air, producing a layer of carbonate. It is somewhat brittle at room temperature but malleable above 100 oC. Zinc reacts with both acids and alkalis. It is a fair conductor of electricity, and burns in air with a bright bluish-green flame producing white clouds of the oxide.</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 Gold is an excellent conductor of heat and electricity. It is a soft, yellow, metal with a beautiful lustrous sheen. It is the most malleable and ductile of all the elements and a single gram can be beaten into a sheet one square meter sheet of gold leaf</a:t>
            </a:r>
            <a:endParaRPr b="0" lang="en-US" sz="2800" spc="-1" strike="noStrike">
              <a:solidFill>
                <a:srgbClr val="000000"/>
              </a:solidFill>
              <a:latin typeface="Times New Roman"/>
            </a:endParaRPr>
          </a:p>
          <a:p>
            <a:pPr marL="212400" indent="-2124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 Cadmium is a soft, malleable, ductile, bluish-white metal, which is easily cut with a knife. It is an excellent electrical conductor and shows good resistance to corrosion and attack by chemicals. It is similar in many respects to zinc in its chemical properties. Cadmium tarnishes in air and is soluble in acids but not in alkalis. The metal burns in air to form brown cadmium ox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ounds Formed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Nitrates, oxides, chlo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Oxides, nitrates, chlorides, hyd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Oxides, chlorid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Nitrates, oxides, chlorides, hydr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Uses/Weird Facts</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14300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obalt is used in alloys for aircraft engine parts and in alloys with corrosion/wear resistant uses. Cobalt is widely used in batteries and in and ceramics. Radioactive 60Co is used in the treatment of cancer. Cobalt is essential to many living creatures and is a component of vitamin B12. </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n-Zinc is used to galvanize iron to inhibit corrosion. Zinc forms many alloys with other metals such as brass, German silver, nickel silver, typewriter metal and solders. Zinc alloys are used in die-castings for the car industry. The metal acts as both the container and as an electrode in zinc-carbon batteries. The drawback of this dual use is that the electrode is consumed when the battery is in use, getting thinner until eventually the battery starts leaking. Zinc is an essential trace element for animals and plants. electroplating. Cobalt salts are used to impart blue and green colors in g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Uses/Weird Facts Cont.</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9907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4000"/>
          </a:bodyPr>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 Gold is widely used in jewelry and coinage. It is also used in dental work as crowns, as gold plating for decoration and as gold thread in embroidery work. Many satellites carry gold-coated mylar sheets as a solar heat shield because gold is an excellent reflector of radiation and unreactive. Similarly astronaut's helmet visors are coated with a thin layer of gold to guard against dangerous effects of solar radiation.</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 Cadmium is used in alloys for bearings. Cadmium is used in low melting alloys and is a component of many kinds of solder. It is also is used in electroplating.</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re are many other uses for all of the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Cobal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Zinc</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Gol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Cadmi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ptions/Why they are placed in this group</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Number + Mas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27; 58.9</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30; 65.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79; 197</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48; 112.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2</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2,3</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2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Config.</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s2 2s2 2p6 3s2 3p6 4s2 3d7</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s2 2s2 2p6 3s2 3p6 4s2 3d10</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s2 2s2 2p6 3s2 3p6 4s2 3d10 4p6 5s2 4d10 5p6 6s2 4f14 5d9</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s2 2s2 2p6 3s2 3p6 4s2 3d10 4p6 5s2 4d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lting and Boiling Poin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768k; 3200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692.68k; 1180.15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337.33k, 3129k</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594.22k; 1040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blu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bluish gray</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orange-yellow</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dark r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Siz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 125</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13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44</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14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nsit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8.86g per cubic centimeter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n- 7.04g</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 19.3g</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8.64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5:28:28Z</dcterms:created>
  <dc:creator>PA Department of Education</dc:creator>
  <dc:description/>
  <dc:language>en-US</dc:language>
  <cp:lastModifiedBy>PA Department of Education</cp:lastModifiedBy>
  <dcterms:modified xsi:type="dcterms:W3CDTF">2009-12-21T18:59:44Z</dcterms:modified>
  <cp:revision>4</cp:revision>
  <dc:subject/>
  <dc:title>Cameron’s Awesome Wonderful Project</dc:title>
</cp:coreProperties>
</file>